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2EF-E09B-475D-8C16-E56FE31F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4F7-3FCA-4948-B430-3A7721E3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472-0F94-4EAE-829E-38991D83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956-527D-4277-A29E-E6D712B2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24B-01DC-45B0-8462-221FF6A5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B52-A417-4C11-A445-0D65F373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F83-8726-43D7-9176-CEA54619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4D0-907E-4C06-A2A9-9B017CB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2C1-426B-4D6F-B9AC-111CA284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AA5-D33A-4D3D-8DA5-ADDE9C6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BB4-9584-4883-BA04-52DCBF7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FBF-181A-4BB4-8353-B14EA125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EFF964-D9B8-4032-BAC6-4D9E0F5C1F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60368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444760"/>
            <a:ext cx="4800600" cy="281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5480" y="990720"/>
            <a:ext cx="321948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r opinion, which picture is more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50:27Z</dcterms:created>
  <dc:creator>Emily Dolci</dc:creator>
  <dc:description/>
  <dc:language>en-US</dc:language>
  <cp:lastModifiedBy>Emily Dolci</cp:lastModifiedBy>
  <dcterms:modified xsi:type="dcterms:W3CDTF">2008-11-19T17:50:45Z</dcterms:modified>
  <cp:revision>1</cp:revision>
  <dc:subject/>
  <dc:title>Slide 1</dc:title>
</cp:coreProperties>
</file>